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3F6-7B78-40AA-929C-99CEB9C7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402-92B2-4FD4-AE4A-FC54CBEC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692-7965-4FCC-9338-F87ACEC3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626-D5D0-4165-AD63-241A298D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976-C2D1-4556-B51B-503FAE3D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845-7C49-4E5F-B102-37DC8014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792-DAA5-4472-B486-5A5889DA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1DF-16ED-406B-99F8-A40AABF6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300-4822-4494-A83F-FD601075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6C1-43BE-40ED-901F-EE8FE907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F07-36A6-4907-843A-1A3A3D05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B50-2F87-436F-B78B-EC5B9B3F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7CCA-03B5-4567-B566-EA63223E1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00"/>
                </a:solidFill>
                <a:latin typeface="Kristen ITC"/>
              </a:rPr>
              <a:t>OFF-CAMPUS IN HIGH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owner\AppData\Local\Microsoft\Windows\Temporary Internet Files\Content.IE5\QXY2AMDI\MC900060254[1].wmf"/>
          <p:cNvPicPr/>
          <p:nvPr/>
        </p:nvPicPr>
        <p:blipFill>
          <a:blip r:embed="rId1"/>
          <a:stretch/>
        </p:blipFill>
        <p:spPr>
          <a:xfrm>
            <a:off x="5624640" y="574560"/>
            <a:ext cx="2041560" cy="2570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owner\AppData\Local\Microsoft\Windows\Temporary Internet Files\Content.IE5\R6K5S5FH\MC900018397[1].wmf"/>
          <p:cNvPicPr/>
          <p:nvPr/>
        </p:nvPicPr>
        <p:blipFill>
          <a:blip r:embed="rId2"/>
          <a:stretch/>
        </p:blipFill>
        <p:spPr>
          <a:xfrm>
            <a:off x="1720800" y="800280"/>
            <a:ext cx="1905120" cy="2118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owner\AppData\Local\Microsoft\Windows\Temporary Internet Files\Content.IE5\R6K5S5FH\MC900198043[1].wmf"/>
          <p:cNvPicPr/>
          <p:nvPr/>
        </p:nvPicPr>
        <p:blipFill>
          <a:blip r:embed="rId3"/>
          <a:stretch/>
        </p:blipFill>
        <p:spPr>
          <a:xfrm>
            <a:off x="1192320" y="3886200"/>
            <a:ext cx="2349360" cy="2779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owner\AppData\Local\Microsoft\Windows\Temporary Internet Files\Content.IE5\QXY2AMDI\MC900084090[1].wmf"/>
          <p:cNvPicPr/>
          <p:nvPr/>
        </p:nvPicPr>
        <p:blipFill>
          <a:blip r:embed="rId4"/>
          <a:stretch/>
        </p:blipFill>
        <p:spPr>
          <a:xfrm>
            <a:off x="5334120" y="4160880"/>
            <a:ext cx="2622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Diagram 6" descr=""/>
          <p:cNvPicPr/>
          <p:nvPr/>
        </p:nvPicPr>
        <p:blipFill>
          <a:blip r:embed="rId1"/>
          <a:stretch/>
        </p:blipFill>
        <p:spPr>
          <a:xfrm>
            <a:off x="987480" y="822240"/>
            <a:ext cx="694368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c00000"/>
                </a:solidFill>
                <a:latin typeface="Kristen ITC"/>
              </a:rPr>
              <a:t>WHY OFF-CAMPUS</a:t>
            </a:r>
            <a:r>
              <a:rPr b="1" lang="en-CA" sz="44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Kristen ITC"/>
              </a:rPr>
              <a:t>Enhance Essential and Workplace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Kristen ITC"/>
              </a:rPr>
              <a:t>Connect school with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Kristen ITC"/>
              </a:rPr>
              <a:t>Find career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Kristen ITC"/>
              </a:rPr>
              <a:t>Earn a positive reference from an emplo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Kristen ITC"/>
              </a:rPr>
              <a:t>Possible contact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Kristen ITC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Kristen ITC"/>
              </a:rPr>
              <a:t>future 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Kristen ITC"/>
              </a:rPr>
              <a:t>Earn cr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owner\AppData\Local\Microsoft\Windows\Temporary Internet Files\Content.IE5\MGPQKUQY\MC900053432[1].wmf"/>
          <p:cNvPicPr/>
          <p:nvPr/>
        </p:nvPicPr>
        <p:blipFill>
          <a:blip r:embed="rId1"/>
          <a:stretch/>
        </p:blipFill>
        <p:spPr>
          <a:xfrm>
            <a:off x="5638680" y="4317840"/>
            <a:ext cx="243360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Kristen ITC"/>
              </a:rPr>
              <a:t>Work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Work Experience 15, 25, 35</a:t>
            </a: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Student /work experience coordinator/employer set up a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Work may be paid or unp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Supervisor and student discuss duties and safety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Employer, student, parent and school division  sign a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Evaluations completed by employer and Work Experience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Students may earn up to 30 credits while in hig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(only 15 may count toward a high school diplo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Kristen ITC"/>
              </a:rPr>
              <a:t>CTR 1010 (Job Preparation) required  (HCS 3000 in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j0186092"/>
          <p:cNvPicPr/>
          <p:nvPr/>
        </p:nvPicPr>
        <p:blipFill>
          <a:blip r:embed="rId1"/>
          <a:stretch/>
        </p:blipFill>
        <p:spPr>
          <a:xfrm>
            <a:off x="6629400" y="0"/>
            <a:ext cx="1820880" cy="17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j0186098"/>
          <p:cNvPicPr/>
          <p:nvPr/>
        </p:nvPicPr>
        <p:blipFill>
          <a:blip r:embed="rId2"/>
          <a:stretch/>
        </p:blipFill>
        <p:spPr>
          <a:xfrm>
            <a:off x="7391520" y="4800600"/>
            <a:ext cx="14778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21480"/>
            <a:ext cx="9561600" cy="62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Kristen ITC"/>
              </a:rPr>
              <a:t>GREEN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The Green Certificate program is a collaborative ventur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Alberta Agriculture, Food and Rural Development, and Alberta Lear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Most students live on family f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Nine Strands: Cow-Calf, Dairy, Feed Lot Beef, Field Cro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Swine, Sheep, Irrigated Crop  Bee Keeping  and Equ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Green Certificate students make arrangements with a trainer, often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Orientation with student, trainer and Green Certificate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Students are tested three times a year at a testing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16 credits in Green Certificate (all 30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Each school/division determines how the fee will be paid.</a:t>
            </a:r>
            <a:r>
              <a:rPr b="1" lang="en-US" sz="18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Kristen ITC"/>
              </a:rPr>
              <a:t>AGR  3000 required in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j0233188"/>
          <p:cNvPicPr/>
          <p:nvPr/>
        </p:nvPicPr>
        <p:blipFill>
          <a:blip r:embed="rId1"/>
          <a:stretch/>
        </p:blipFill>
        <p:spPr>
          <a:xfrm>
            <a:off x="6629400" y="4287960"/>
            <a:ext cx="236232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Kristen ITC"/>
              </a:rPr>
              <a:t>Registered Apprenticeship Program (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Collaboration between the Apprenticeship and Industry Training  and the Department of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Apprenticeship program for high school students. Students must be working toward a High School Dipl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More than 50 trades in Alberta that require apprenticeship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- Choose a trade</a:t>
            </a: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- Find an Empl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- Work with Off-Campus coordinator to set up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- 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Off-Campus coordinator and employer complete eval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Kristen ITC"/>
              </a:rPr>
              <a:t>RAP students may work off up to 1000 hours of first year apprenticeship and earn up to 40 cr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j0217526"/>
          <p:cNvPicPr/>
          <p:nvPr/>
        </p:nvPicPr>
        <p:blipFill>
          <a:blip r:embed="rId1"/>
          <a:stretch/>
        </p:blipFill>
        <p:spPr>
          <a:xfrm>
            <a:off x="7238880" y="3124080"/>
            <a:ext cx="16797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68"/>
                </a:solidFill>
                <a:latin typeface="Kristen ITC"/>
              </a:rPr>
              <a:t>Summer Health Inter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Kristen ITC"/>
              </a:rPr>
              <a:t>Coordinated by Careers the Nex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Kristen ITC"/>
              </a:rPr>
              <a:t>Supports career exploration choices in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Kristen ITC"/>
              </a:rPr>
              <a:t>Students have the opportunity to be involved in health care while in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Kristen ITC"/>
              </a:rPr>
              <a:t>Students work in Health Care facilities for six weeks in the sum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Kristen ITC"/>
              </a:rPr>
              <a:t>Most in Grade 11, a few after Grade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2268"/>
                </a:solidFill>
                <a:latin typeface="Kristen ITC"/>
              </a:rPr>
              <a:t>Students earn credits, most are paid an honora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22268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Program Files\Microsoft Office\MEDIA\CAGCAT10\j0240719.wmf"/>
          <p:cNvPicPr/>
          <p:nvPr/>
        </p:nvPicPr>
        <p:blipFill>
          <a:blip r:embed="rId1"/>
          <a:stretch/>
        </p:blipFill>
        <p:spPr>
          <a:xfrm>
            <a:off x="7696080" y="1219320"/>
            <a:ext cx="1163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at do employers really w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y want workers w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how up to work on the days and times they are ass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ork the best they can on all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k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Find things to do when they are finished assign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e grat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5:13:53Z</dcterms:created>
  <dc:creator>nthompson</dc:creator>
  <dc:description/>
  <dc:language>en-US</dc:language>
  <cp:lastModifiedBy>Norma.Thompson</cp:lastModifiedBy>
  <dcterms:modified xsi:type="dcterms:W3CDTF">2010-10-21T16:40:09Z</dcterms:modified>
  <cp:revision>46</cp:revision>
  <dc:subject/>
  <dc:title>     </dc:title>
</cp:coreProperties>
</file>